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12764-FF27-48A0-BA04-8C385378D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C250B-0EC8-479D-B54D-F408ABBED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10223-8122-45D1-8674-1415D258E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45944-C103-426D-8DF3-0D788FA9D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85D41-959E-4C87-AB04-360D9FC0D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C50EB-E566-49DC-8C94-1FCF06EDC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01852-D03F-4FDD-B0D2-4964E3000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1B5B1-A8E9-4510-A470-E08A4D857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02C2E-F9B2-449B-88F2-DBE909D3B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0AD4F-47F7-41CB-8FB2-F275472E3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75B8A-07E1-4CD0-9EC6-8BD4DDCF5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33900-6961-4F7F-AA27-54F7C3CD8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CB2F-8551-4590-98F0-3FA2F9BBC0C3}"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CuadroTexto"/>
          <p:cNvSpPr/>
          <p:nvPr/>
        </p:nvSpPr>
        <p:spPr>
          <a:xfrm>
            <a:off x="1000080" y="928800"/>
            <a:ext cx="67867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Opinión public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Es la diversidad de opiniones que pueden tener los individuos dentro de una sociedad sobre un tema en particular, y que sea de interés general. Esta diversidad de opiniones generara un panorama mas amplio sobre los hechos de relevancia, en el que la consecuencia será una  opinión independiente y sin prejuicio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La opinión publica siempre estará influenciada por los medios de comunicación, y trataran de corromper la opinión libre imponiendo lideres de opinión sobre las mentes que no tienen la capacidad de generar criterios, para posteriormente manipularlos de alguna manera en la que los ciudadanos aprobaran todo los estipulado por ese líder.</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Debemos tener en cuenta que México  vive en una sociedad al acecho de ser manipulada en que olvidamos que tenemos la capacidad de opinar libremente, y que nuestro juicio es tan valido como el de cualquie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07:19:39Z</dcterms:created>
  <dc:creator>Orlando</dc:creator>
  <dc:description/>
  <dc:language>en-US</dc:language>
  <cp:lastModifiedBy>Orlando</cp:lastModifiedBy>
  <dcterms:modified xsi:type="dcterms:W3CDTF">2009-09-21T07:27:56Z</dcterms:modified>
  <cp:revision>1</cp:revision>
  <dc:subject/>
  <dc:title>Diapositiva 1</dc:title>
</cp:coreProperties>
</file>